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ABB2-7361-41BA-B57A-3FF59609DC50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ne contractor severely criticized for charging $25,000 per coffee pot in airplanes built for the govern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t - requirements for coffee pot were so stringent that the plane could have crashed and yet no coffee could spil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t cost a great deal to develop the coffee pot and to verify that it met its requirem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ch copy had to be built to a stringent design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597-D104-4925-8F73-77F755CF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1A8-8EC8-45E7-802E-007BFA0F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A95-4AB2-4245-A220-9244418E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7F7-8716-4EC1-B781-9C802D63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B943-F8A8-49B3-B8E9-081878B2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62C2-98BD-4CD6-A819-CCCAA224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E935-AB3D-4A33-9BE1-59AE713A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53FB-8E2D-4510-A5B8-4E4D6991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059-6DCC-4282-B8C1-4026D43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336-EDE9-4B28-91C7-E8292FEB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D619-B6E3-449A-9E0C-9E26255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DD9-6A81-4B03-9C01-028E8B7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CA0-798E-476A-9DEE-80C59E3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2DD-B77B-43D7-87D5-594183C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1AF-5ACF-4FA4-BD0F-7FBDB7D3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4C0-0303-4DAF-80B9-F3C8076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C255-E545-4A89-9E5F-6721FCEB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85C-2203-4221-B4C2-6A3AE61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A93-26A5-4804-B9FA-643818B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E41-B515-44C0-8C8E-C089E0A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623-3F64-4FB6-8BB0-A2F34E2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77E-17D3-46E1-B82D-829DBE3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9CA-CD4C-436A-917C-E5E31C2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F8D-902B-4501-A31E-DFC7E96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E66-40ED-4C50-BA68-A271A85BD88E}" type="datetime5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C76A-EB93-4419-8CA3-3E8DE45159C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A70-9C19-4E41-B5DE-C02D76973A1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mplianceautomation.com/papers/writingreqs.htm" TargetMode="External"/><Relationship Id="rId3" Type="http://schemas.openxmlformats.org/officeDocument/2006/relationships/hyperlink" Target="http://www.complianceautomation.com/papers/writingreqs.htm" TargetMode="External"/><Relationship Id="rId4" Type="http://schemas.openxmlformats.org/officeDocument/2006/relationships/hyperlink" Target="http://www.complianceautomation.com/papers/ManagingRequirements.pdf" TargetMode="External"/><Relationship Id="rId5" Type="http://schemas.openxmlformats.org/officeDocument/2006/relationships/hyperlink" Target="http://www.complianceautomation.com/papers/incose_goodreqs.pdf" TargetMode="External"/><Relationship Id="rId6" Type="http://schemas.openxmlformats.org/officeDocument/2006/relationships/hyperlink" Target="http://www.complianceautomation.com/papers/ACaseforPriority.pdf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205 Software Engineer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mester One 200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st of erro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47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Function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requirements describe what the system does (capabilities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g, “The system shall enroll students in course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Non-functional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Non-function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requirements describe what the system has (physical characteristics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clude reliability, quality, safety, maintainabilit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51920" cy="619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92360" y="6597720"/>
            <a:ext cx="56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Times New Roman"/>
              </a:rPr>
              <a:t>Sommerville, I., Software Engineering. 6</a:t>
            </a:r>
            <a:r>
              <a:rPr b="0" lang="en-NZ" sz="16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NZ" sz="1600" spc="-1" strike="noStrike">
                <a:solidFill>
                  <a:srgbClr val="ffffcc"/>
                </a:solidFill>
                <a:latin typeface="Times New Roman"/>
              </a:rPr>
              <a:t> edn, Pearson, 200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78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ualities of good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0440" y="194148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cessa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rifi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ain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sist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ess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ated requirement is an essential capability, physical characteristic, or quality factor of the product or proces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it is removed or deleted, a deficiency will exist, which cannot be fulfilled by other capabilities of the product or pro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erifiab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ated requirement is not vague or general but is quantified in a manner that can be verified by one of these 4 alternative methods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spection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alysis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on 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s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fine measure when writing requiremen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inab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tated requirement can be achieved at a definable cos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chnically fea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e by analy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ts within budg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ts schedu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e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requirement expresses a single though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is concise and simp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sy to read and understan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le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requirement is standalo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explanation should be necessary in the requirements docu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lanations may be in other documentation, i.e. analys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38988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s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tated requirement does not contradict other requirement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is not a duplicate of another requir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ame term is used for the same item in all requireme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mon Proble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34680" y="194148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us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” not “what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or assump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erations not require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string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229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ach requirement can usually be written in the format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 System shall provide ........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 System shall be capable of ........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he Subsystem #1 shall provide ........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he Subsystem #2 shall interface with .....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phrase is followed by a statement of what the system do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229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ven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ll”  - used for requi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” – statements of fa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uld” - goa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e”, “is”, “was”, “must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pport” (as in “system will support backups”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 not limited to”, “etc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/o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mbiguous Langu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nnot cost unknow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requirement is not definable, it may need to go back to analysis st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mbiguous Langu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voi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inimiz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aximiz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apid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User-friendly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asy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ufficient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dequat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Quick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w” not “What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 describing implementation in requir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g,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“provide a database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ferable: 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“provide capability for storing, displaying and sorting customer data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y result in a database, but allows other possibil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or assump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insufficient information available – poor requirements will be writte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ers make assumptions about missing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cument ful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cument assump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 describing the use of the syste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g,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“System shall allow user to open a dialogue box and enter data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ferable: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 “system shall allow data entr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Functional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4665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ish 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ments must be realistic, not a list of “nice to have” fea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prioritising to clarify with cli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oritis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set of requirements often a wish li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too long and imprecise to be practically implemen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finements and clarifications are negotiated during the course of a pro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ditional requirements or changes to existing requirements are identified in the normal course of engineering a solu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t all requirements are created eq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30132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Not all requirements are created equal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oritising Requireme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elop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ioritising Requirement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must be included in the syste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Usefu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would reduce system effectiveness if left 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esirab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are not part of the core, but make the system more attractive to the users prioriti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ioritising Requirement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oritizing is beneficial to the projec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roved customer satisfact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ectations are more realistic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sier to correlate requirements delivered with schedule deadl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stringent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g airline coffee po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o much det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creases costs and complexity of develop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22920" y="2036880"/>
            <a:ext cx="1600200" cy="1790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508280" y="4074840"/>
            <a:ext cx="4028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 Stringent 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0920" y="2781000"/>
            <a:ext cx="648648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common se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riting good requirements is difficult, requires careful thinking and analysis, but is not magic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rements which have these characteristics will be easier to meet and help insure that the customer gets what he want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ime spent up front, carefully defining and articulating the requirements is the first step towards insuring a high quality produc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complianceautomation.com/papers/writingreqs.h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complianceautomation.com/papers/ManagingRequirements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http://www.complianceautomation.com/papers/incose_goodreqs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http://www.complianceautomation.com/papers/ACaseforPriority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Functional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Evaluation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Project estim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Functional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Functional requirements documen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concepts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concepts present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specs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specification (style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guide etc),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Stable development platform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Implementation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 u="sng">
                <a:solidFill>
                  <a:srgbClr val="ffffcc"/>
                </a:solidFill>
                <a:uFillTx/>
                <a:latin typeface="Arial"/>
              </a:rPr>
              <a:t>Functional deliverable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(Release Two)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Evaluation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Analysis of functional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liverabl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3384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2000" y="511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13961" r="0" b="30192"/>
          <a:stretch/>
        </p:blipFill>
        <p:spPr>
          <a:xfrm>
            <a:off x="971640" y="907920"/>
            <a:ext cx="7429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13961" r="0" b="30192"/>
          <a:stretch/>
        </p:blipFill>
        <p:spPr>
          <a:xfrm>
            <a:off x="0" y="0"/>
            <a:ext cx="2879640" cy="212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16360" y="451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69812" r="0" b="-6542"/>
          <a:stretch/>
        </p:blipFill>
        <p:spPr>
          <a:xfrm>
            <a:off x="539640" y="2637000"/>
            <a:ext cx="8317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NewRomanPS-BoldMT"/>
              </a:rPr>
              <a:t>Requirement. </a:t>
            </a:r>
            <a:r>
              <a:rPr b="0" lang="en-US" sz="3200" spc="-1" strike="noStrike">
                <a:solidFill>
                  <a:srgbClr val="ffffcc"/>
                </a:solidFill>
                <a:latin typeface="TimesNewRomanPSMT"/>
              </a:rPr>
              <a:t>A statement identifying a capability, physical characteristic, or quality factor that bounds a product or process need for which a solution will be pursu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ure to manage requirements can lead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 overru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nging requi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Especially if they were not right in the first pla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EEE study on requirement errors showed that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0% due to ambiguities and inconsistenc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1% due to omiss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9% due to incorrect fac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used by incorrect assump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6:53:54Z</dcterms:created>
  <dc:creator>Smith</dc:creator>
  <dc:description/>
  <dc:language>en-US</dc:language>
  <cp:lastModifiedBy>LSMITH</cp:lastModifiedBy>
  <dcterms:modified xsi:type="dcterms:W3CDTF">2006-03-20T21:01:33Z</dcterms:modified>
  <cp:revision>12</cp:revision>
  <dc:subject/>
  <dc:title>Introduction</dc:title>
</cp:coreProperties>
</file>